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0F9-140B-4904-8172-3B5FF423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2EC-48F2-45BB-A463-C5F0FBC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DD4-2D19-433A-94A4-F2FD09BF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CD0-05F2-43AF-96DE-E7945ACF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C49-495B-4460-A0F8-8ED032C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A82-ACE0-4F34-8660-F57AB8AE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B95-99AE-4E82-A6EF-71B956F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826-B7C0-42D4-A5A2-141D145D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E2D-F507-4A44-A075-D52BE6BC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92C-3193-428E-81D9-049CE05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FC1-46BD-473F-BCA6-BE7030C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FA0-551F-45D3-8434-BDFD354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7AD2E04D-C7EB-427E-9598-2FBA99345EB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4 Updat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blic Outreach in 2007/20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ristine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ublic Outreach Officer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ogo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have the correct logo for you? If not, please send it to kyun@jive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FD1-CD7C-4CCA-8F10-BEE29E8EBA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stine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Outreach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9C0-4489-42B4-92EF-23642986E4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ublic Outreach in 2007/2008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ch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Correlation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35B-1B68-481A-868B-C847967BFA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s Releases – www.expres-eu.org/news.htm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ugust 2007 - First 512 Mbps e-EVN image from six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August 2007 - Huib Jan van Langevelde named new director of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August 2007 - First e-VLBI data from China-Australia, China-Europe and Australia-Europe baseline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Release picked up by multiple sources. Site traffic spiked from ~75 visits/week to 548 visits the week of the release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September 2007 - e-VLBI detection of SN2007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October 2007 - Global collaboration helps astronomers get more complete view of the universe (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2 press re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643-A95D-4DDA-B53F-73AECDE0CA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rochur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-fold brochure printed in March 2007 and distributed to all EXPRe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opies still available for conferences, open days, visitor's cent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4953240" cy="23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449568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68E-B2C0-4D7B-90D6-8027FB730A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st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in January 2008 and distributed to astronomy institutes and universities throughout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6324840" cy="44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56D-8024-4CD4-AF4D-60EBCDF549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eal-time correlation map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gle Map updated in real-time showing stations currently correlating at JIVE (both regular VLBI and e-VL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expres-eu.org/maps/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68360"/>
            <a:ext cx="5334120" cy="41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46F-6F5D-4C18-B0DF-1D6E626C45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pla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x2 meter display is available for use at meetings, conferences, open day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to EXPReS partners. Shipping costs to be covered by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810480" cy="44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704-074A-4C20-9BAF-5F89AA153B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erchandi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2008: each partner will receive five polo shirts and five t-shirts to distribute to EXPReS staff and key part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01880" cy="364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657600" cy="36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66F-2530-4D3C-93AB-19ACF7B616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dditional Material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tems available in the NA4 section of th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erplate descriptions of EX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s and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preparation of EXPReS related talks and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13D-E22D-4386-88AB-6D65858024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1-28T13:50:46Z</dcterms:modified>
  <cp:revision>30</cp:revision>
  <dc:subject/>
  <dc:title>Slide 1</dc:title>
</cp:coreProperties>
</file>